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0B2-2D77-40B7-99CC-ECEC8844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5F5-DD13-4904-8B8E-6C7AD8B8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CCA-3E39-4281-B3DA-A6C3CA7A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E14-20E3-4684-8FA4-1A9CD14C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D11D-588F-4C1F-A129-6B64907E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7361-E3A5-41D9-B6D5-2A630275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1BCA-0FC7-45AF-9434-45E94210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FE1A-865C-4552-A69E-CFB718E6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92D4-F06D-441E-83F8-252F23AE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615E-2618-4AA2-86D7-716A1273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6D54-DE1C-4FF4-8C96-D827001B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2E6-9640-4A92-882B-0B4A1F5E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1CD7-BA07-4418-9B59-FAF3EC44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E233-E67C-483C-A35B-F4A1413D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EB11-8A70-4AB4-BA9E-0A145264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0FC6-2559-48C8-B52C-E2F33730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662E-C159-4564-A2FB-6F15BC4B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5EB2D-F193-49C4-B111-D3C86EFA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5E36F-F8FF-4EFC-886D-745F03C9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090AC-26C3-4276-A6BA-E69C52EA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58A28-196F-4822-8570-77CB7414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90B9C-2162-47DE-96D7-3EB6BB77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146-4C06-4EEC-9884-0268CFB8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1B751-293C-4111-B65A-32792179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E1623-14BD-435C-B612-72A03565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3315A-F65D-4124-A0C7-3AB63194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D116C-4999-4427-B03F-34F939D6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2DFD7-A6F7-45BC-ADD0-2C7EDCB0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1A11A-A225-4A81-9DB9-38A75FCF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88F7D-9A41-4116-966C-7BEA62F0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296D4-8290-4210-AE78-592615EA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7BAA0-E304-45F7-BE56-D8F50C90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825B5-0C93-4BE8-939C-C0E165A8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13A-A3AE-4C01-B3EF-B1D9D7DB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39CD7-6328-47C2-8C36-CF827C24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7ECC0-46B6-4537-B9DC-C37B297E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AF9B7-3F5B-4193-82F5-BCB2D7EC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74B01-CD0F-44EF-944D-4B4192CA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57E08-562D-447F-8F1B-46F7230A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2743C-05CE-4CD5-AA30-545ECB00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FC1C-9EDD-47DF-A09F-21A19781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A21AB-4F61-454A-A441-537B8E91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EA2E5-A741-4799-90DE-A75B8701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B94C1-5451-477D-B009-64F9D004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D6D-E61D-400B-A397-35524CF2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84CCB9-7A0B-4AEF-95A2-6E7A10EE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6C1B6-D386-4F04-B5C0-CBDC37F7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4CDF73-76EA-4C33-8FA7-21103590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65666-11A9-48D9-8CA3-B05ED0D4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1480C-8CBB-4D91-A0CA-EA959D3C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1ACB4-B500-47D3-A21C-2F740656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D339A-917F-4C4F-8A62-05ADD3BF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5C5C3-8A5E-4813-9BF6-BC99B987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B4632-36C1-4890-9C30-ED26B322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17A3A-DFE9-49E7-90FE-A0B6E1D3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F8F5-56B8-4137-9976-F625DF09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01CB2-8B39-40AF-A3F2-A7AA94B6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668CC-B330-4CEB-9AAF-6B0071C7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12BF79-0775-49D1-94ED-9192F8C7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CC2F55-6262-4F35-966E-B1AA65A6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FE315B-4D07-4252-BDB0-A939149B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D4053-9E8D-48CB-B7E2-0C16EB2E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B86C1F-07FC-4582-AB2E-9860E36F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D94109-9F18-4268-92DA-112B3089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DF286-2088-4C60-A058-98412D71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BC4543-CDE2-4FE2-A0BC-18B76FF0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AB7-26D6-4DBE-AC95-591585AB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1AD63-EA49-45A0-9A5D-9A598323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872F7-DBE2-44EF-8185-4CDA1EAE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93C968-F407-4A08-8B62-271488D1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355199-8EDF-4561-BAA7-4770CEF1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9FABE4-620B-49BB-A928-0C861798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E1026B-28E0-49EB-81C8-62B144BF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5FD25-71CF-4174-9136-95A6DCE7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70326A-8F24-4C73-98FA-5F36EBC2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1E8D82-D3A4-442E-91A4-6981264C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1B9B8-C04D-4286-A24A-1554109C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7FE-2C1B-43ED-A6B7-53AE0FB1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5338C3-C20B-46D4-8331-9424EFC6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2A81F9-A12D-49F5-A9CE-A5161243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AA6E58-7E5A-48B1-85B7-9768D043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418AF4-2ABA-40FC-AE19-087797D9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9769B1-18B6-4A60-8F30-3E87F09C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F0CC5-477C-4766-A6B3-D931AEF3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C2443-A0ED-4D72-A327-9FC18D60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9715D-E5AA-4B06-BFE7-2356E1B3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AD4B5-544B-4FBA-A8F9-08C802EC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BD12C-9DB7-4102-8538-0D8DA21A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6E9-1963-4DBD-B5FF-3334C9BD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1650D-005F-4FFC-BD9D-C6FCF907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5D5BA-B7C3-4155-8967-4B18058F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80C2A-315A-40C1-A87A-5D43B8A9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EFCAC-CC7B-416B-B98A-7CC9955B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B9F49-5D91-4120-B13E-2155605C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2C5AA-69DB-42F9-A0BC-B490A8DD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34C59-8975-477D-A59A-21878943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7CD1-28C8-4B66-A138-351ACA9744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AE68-BA6E-4DCB-A7D2-29F2A354149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7A95-B910-4065-B3CE-7329FB32A13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845F-06EC-4E61-89F2-3A6167506F1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66A0-5A45-43C8-8E53-7B2A380DF6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1E69-AE67-42B0-9671-A08872EE3C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50B2-C745-4E22-92DA-F0D57CA97E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3FB3-501F-44BE-90E6-90F5817095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planurokal@mail.ru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lanurokas@mail.ru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planurokap@mail.ru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lanurokaa@mail.ru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КАФЕДРА НАЧАЛЬ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 ГБОУ ДПО 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«НИЖЕГОРОДСКИЙ ИНСТИТУТ РАЗВИТИЯ ОБРАЗОВАНИЯ»</a:t>
            </a:r>
            <a:br>
              <a:rPr sz="29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979640" y="544500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Требования к оформлению зачетной работы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Квалификационные курсы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НИРО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Arial"/>
              </a:rPr>
              <a:t>2017 - 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ПРОЕКТ УРОКА</a:t>
            </a:r>
            <a:br>
              <a:rPr sz="2700"/>
            </a:b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СТРУКТУР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ый предмет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К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а урока 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ип урока: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 урока__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жидаемые результаты (предметные; метапредметные: познавательные, коммуникативные, регулятивные; личностны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руд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ходный уровень знаний и умений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изучения данной т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апы урока и хрономе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ание урока (в таблиц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анализ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полненный бланк ( в том числе и в электронном виде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ческие треб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улируется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полн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точно в соответствии с рекомендациями авторов УМК, данными в рабочей программе и методических рекомендациях по предмет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ЗАДАЧИ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онкретных дидактических зада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полно и точно, так, чтобы можно было отследить их реализацию в ходе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ажно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ставятся только т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, над которыми реально ведется работ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 данном уроке и их реализацию возможно отследить в ходе уро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333360"/>
            <a:ext cx="74674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адачи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уются комплексные задачи, связанные с формированием различных компонентов учебной деятельности и УУД, а дидактические задачи включаются в  них как составная ча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пример,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познавательных логических УУД анализа и обобщения на основе самостоятельного открытия учащимися нового вычислительного приема сложения с переходом через десяток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             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регулятивного УУД итогового самоконтроля на основе соотнесения составленного текста и его модел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НЕ допускаетс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задач урока в общей форме, например, «Развивать мышление учащихся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ОБОРУДОВ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глядные пособ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боры, инструмен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пособия (карточки, средства обратной связи и др.) прилагаются к конспекту и описывают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пьютерная презентация (если есть в ней необходимость), прикладывается к проекту и др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ПЛАН И ХРОНОМЕТРАЖ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бный план, отраж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ую и методическую структур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раткое содержание каждого этап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ся время на каждый этап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42920" y="4005360"/>
          <a:ext cx="7705800" cy="1981080"/>
        </p:xfrm>
        <a:graphic>
          <a:graphicData uri="http://schemas.openxmlformats.org/drawingml/2006/table">
            <a:tbl>
              <a:tblPr/>
              <a:tblGrid>
                <a:gridCol w="941400"/>
                <a:gridCol w="4316400"/>
                <a:gridCol w="244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ронометр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План урока с хронометраж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ткрытие способа вычисления площади прямоугольника с применением палет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знакомление с новым вычислительным приемом вида 9+5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Самостоятельная работа учащихся по выявлению свойств и состояний вод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</a:rPr>
              <a:t>ХОД УРО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981000"/>
          <a:ext cx="8785080" cy="5515200"/>
        </p:xfrm>
        <a:graphic>
          <a:graphicData uri="http://schemas.openxmlformats.org/drawingml/2006/table">
            <a:tbl>
              <a:tblPr/>
              <a:tblGrid>
                <a:gridCol w="1425600"/>
                <a:gridCol w="2174760"/>
                <a:gridCol w="2149560"/>
                <a:gridCol w="3035160"/>
              </a:tblGrid>
              <a:tr h="41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оретическое основание: формируемые УУД (группа УУД  и название конкретного УУД) , средства их формирования (формы, методы, приемы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ОДЕРЖ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ход, всё содержание (скан.задания учебника, тетради) и организацию уро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 слова учителя и образцы рассуждений уче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ы работы и способы организации деятельности учащихся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ена дифференциация и индивидуализация обучения  младших школьников (указаны упражнения, виды помощи для отдельных ученик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ОРЕТИЧЕСКОЕ ОБОСН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процесс формирования УУД на каждом этапе данного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а построения суж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что формируется (ук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группа и конкретное уу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з этой группы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 помощью чего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к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онкретн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ие и/или методически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едства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ОУ ДП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егородский институт развития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федра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сы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сро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6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ТНАЯ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 урока по теме: «     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У № _____ _______________рай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О 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ж работы учителем начальных классов___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.Новгор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WordArt 3"/>
          <p:cNvSpPr txBox="1"/>
          <p:nvPr/>
        </p:nvSpPr>
        <p:spPr>
          <a:xfrm rot="5400000">
            <a:off x="-2737080" y="3321000"/>
            <a:ext cx="633744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тульный лис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АМОАНАЛИЗ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водится в соответствии со схемой анализа (бланк №1 и №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ритер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 - соответствует требованиям ФГО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- частично соответству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 –не соответствует (отражает требования к традиционному урок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 этим критериям оценивает работу и преподаватель кафед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76640" y="1196640"/>
            <a:ext cx="1467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КА ПРОЕКТА УРОКА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НК №1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4400" y="25560"/>
          <a:ext cx="7510320" cy="7500600"/>
        </p:xfrm>
        <a:graphic>
          <a:graphicData uri="http://schemas.openxmlformats.org/drawingml/2006/table">
            <a:tbl>
              <a:tblPr/>
              <a:tblGrid>
                <a:gridCol w="450720"/>
                <a:gridCol w="6122880"/>
                <a:gridCol w="368280"/>
                <a:gridCol w="568440"/>
              </a:tblGrid>
              <a:tr h="420480"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\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араметр оце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ложность  содержания, его соответствие возможностям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еализация компетентностного под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ворческий или репродуктивный характер учебных заданий, их целесообразность и обоснова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азвивающая направленность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Логика построения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ы учебной  работы, их разнообразие и оптимальность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етоды обучения и методические приемы, целесообразность их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арактер используемой нагля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Целесообразность и функциональность используемых средств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уществление дифференцированного подхода к учащимся, учет их индивидуальных особе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мотивационного компонента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становка учебных задач. Организация целеполаг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познаватель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регуля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коммуника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0240"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сего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3" name="Rectangle 2"/>
          <p:cNvSpPr/>
          <p:nvPr/>
        </p:nvSpPr>
        <p:spPr>
          <a:xfrm>
            <a:off x="7524720" y="2175480"/>
            <a:ext cx="1619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сумм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баллов (разработанный урок полностью соответствует ФГОС), минималь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баллов (урок является традиционны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96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СООТВЕТСТВИЯ СТРУКТУРНЫХ ЧАСТЕЙ ПРОЕКТА УРОКА                                                         БЛАНК №2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50920" y="620640"/>
          <a:ext cx="8640720" cy="4803840"/>
        </p:xfrm>
        <a:graphic>
          <a:graphicData uri="http://schemas.openxmlformats.org/drawingml/2006/table">
            <a:tbl>
              <a:tblPr/>
              <a:tblGrid>
                <a:gridCol w="1185840"/>
                <a:gridCol w="4678200"/>
                <a:gridCol w="1387440"/>
                <a:gridCol w="1389240"/>
              </a:tblGrid>
              <a:tr h="30816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труктурные части проекта и параметры их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Наличие общих сведений о проекте и соблюдение правил оформления зачет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пределение исходного уровня сформированности ЗУ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равильность формулировки темы и задач урока, наличие сведений об оборудован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облюдение требований к плану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Качество теоретического об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декватность самоанализа урока (объективность выставления учителем баллов за свой конспе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</a:tbl>
          </a:graphicData>
        </a:graphic>
      </p:graphicFrame>
      <p:sp>
        <p:nvSpPr>
          <p:cNvPr id="446" name="Rectangle 1"/>
          <p:cNvSpPr/>
          <p:nvPr/>
        </p:nvSpPr>
        <p:spPr>
          <a:xfrm>
            <a:off x="250920" y="5479920"/>
            <a:ext cx="853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ивания используется следующая шкала: 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требованиям,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чно соответствует, 1 - минимально соответствует, 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ностью не соответствует. Максимальная сумм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баллов, мини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бал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ценка проекта урока и структурных частей проекта урока в сумме может составить 63 балла максим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зачетной работы преподавателем НИР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31 бал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чтено с замеч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- 63  -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ТЕХНИЧЕСКИЕ ТРЕБ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ыполняется на листах формата Ф-4, вложенных в пап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змер шрифта 14, межстрочный интервал 1,5; все поля 2 с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ы пронумерованы, на титульном листе номер не стави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Century Schoolbook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е дополнительную литературу (источники) , которые были использованы при подготовке проекта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ТЕРАТУРА  (В ПОМОЩЬ УЧИТЕЛЮ):</a:t>
            </a:r>
            <a:br>
              <a:rPr sz="1400"/>
            </a:b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СОВРЕМЕННЫЕ ТЕХНОЛОГИИ ПРОВЕДЕНИЯ УРОКА В НАЧАЛЬНОЙ ШКОЛЕ С УЧЕТОМ ТРЕБОВАНИЙ ФГОС» ПОД РЕД. ДЕМЕНЕВОЙ Н. Н., ИЗДАТЕЛЬСТВО «АРКТИ», 2014 Г.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 пособии раскрываются особенности построения современного урока в начальной школе с учетом требования Федерального государственного стандарта. Сопоставлены характеристики традиционного урока, не соответствующего стандарту, и развивающего урока, соответствующего ФГОС НОО. Приводятся примеры из вариативных учебников для начальной школы по различным учебным предмет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особие адресовано учителям начальных классов, директорам и завучам общеобразовательных учреждений, студентам педагогических вузов и колледж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5" descr="image007"/>
          <p:cNvPicPr/>
          <p:nvPr/>
        </p:nvPicPr>
        <p:blipFill>
          <a:blip r:embed="rId1"/>
          <a:stretch/>
        </p:blipFill>
        <p:spPr>
          <a:xfrm>
            <a:off x="395280" y="1268280"/>
            <a:ext cx="3309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ЛЕНИН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l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Ленин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 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СОРМОВСКИЙ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s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рмов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ПРИОК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p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Приок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АВТОЗАВОД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a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втозавод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-243000"/>
            <a:ext cx="9901080" cy="69152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2916360" y="2205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я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рмовског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3995640" y="19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мер оформ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26028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643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В ПРИКРЕПЛЕННОМ  К ПИСЬМУ ФАЙЛ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206028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Проект урок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Бланки самоанали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Дополнительный материал: презентация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сканкопии страниц учебника; тетради и т.д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entury Schoolbook"/>
              </a:rPr>
              <a:t>ПРЕДМЕТ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9:00:30Z</dcterms:created>
  <dc:creator>Александр</dc:creator>
  <dc:description/>
  <dc:language>en-US</dc:language>
  <cp:lastModifiedBy>*</cp:lastModifiedBy>
  <dcterms:modified xsi:type="dcterms:W3CDTF">2018-05-29T08:12:19Z</dcterms:modified>
  <cp:revision>147</cp:revision>
  <dc:subject/>
  <dc:title>Требования к итоговой работе</dc:title>
</cp:coreProperties>
</file>